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0CE-858C-4470-B75F-6E3D3F65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72F-947E-4E0B-97D5-E5559746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BE6-7C74-427D-BCCC-A9C8DF6C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296-2622-4EA3-9416-96373325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03D-18ED-47F1-BEAF-1B95345B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CE0-FE1C-4DFA-A560-1A87F24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58F-9886-4E09-8739-AB2F274C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6EE-F954-4BEC-BF3B-2F2F3694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1DC4-E8DE-444D-A990-C58AAF33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58B7-8308-43A2-AC1A-8D7F300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051-09F0-4263-B746-470EFED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517-DD70-4EAE-BFAD-E09EC20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ECA5-94D9-4627-B355-59A28D383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Book Antiqua"/>
              </a:rPr>
              <a:t>CURSO GEOLOGÍA GENERAL</a:t>
            </a: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br>
              <a:rPr sz="4400"/>
            </a:b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                                     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PROGRAMA</a:t>
            </a:r>
            <a:r>
              <a:rPr b="0" lang="es-ES" sz="4400" spc="-1" strike="noStrike">
                <a:solidFill>
                  <a:srgbClr val="0000ff"/>
                </a:solidFill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Book Antiqua"/>
              </a:rPr>
              <a:t>Primera Parte:</a:t>
            </a: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INTRODUCCIÓN A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Geología como disciplina científica.  El Sistema Tier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Método Científico. Escala de observación geológica. El factor tiempo en los procesos geológicos.  Principio del Uniformitarianis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tructura Interna de  la Tierra:  Núcleo, Manto Astenósfera, Litósfera, Cortez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Capas Externas envolventes: Atmósfera, Biósfera, Hiodrósfe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Rasgos mayores de los Continentes y Océ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geológicos de la Tierra. Materia y Energía. Noción de equilibrio en los procesos geológi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s Dinámicos de la Tierra: Sistema Hidrológico,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istema Tectónico, Gravedad e Isosta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gunda Parte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MATERIALES,  ESTRUCTURAS  Y TIEMPO GEOLÓGIC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Los materiales de la corteza. Minerales y Rocas. Rocas Igneas,   Rocas Sedimentarias y  Rocas Metamórf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structuras y formas de los materiales. Registros de  la deformación de los materiales.  Fracturas: diaclasas y fallas. Pliegues. Discord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El Tiempo Geológico: Edad absoluta y edad relativa de las rocas.  Geocronología.  Criterios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para establecer  el orden cronológico de los procesos y eventos geológicos. Escala Geológica del Tiempo</a:t>
            </a:r>
            <a:r>
              <a:rPr b="0" lang="es-ES_tradn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rcera Parte: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  LOS PROCESOS EXÓGENOS 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(geodinámica externa de la Tier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677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Atmósfera – Océano. Ciclo Hidro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Meteorización ( Intemperización) de los materi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Remociones en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fluvial. Transporte de los materiales hacia el océ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Aguas Subterrá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Glaciar. El trabajo del H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de Costas. Evolución del litoral cost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tema Eólico. Evolución de los Desiertos</a:t>
            </a:r>
            <a:r>
              <a:rPr b="0" lang="es-ES_tradnl" sz="32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uarta Parte: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LOS PROCESOS ENDÓGENOS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(geodinámica  interna de la Tierra</a:t>
            </a:r>
            <a:r>
              <a:rPr b="0" lang="es-ES" sz="2800" spc="-1" strike="noStrike">
                <a:solidFill>
                  <a:srgbClr val="000000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Sismicidad.  Interior de la Tierr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aleomagnetism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Volcanismo</a:t>
            </a: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Tectónica de Placas. Teoría Unificadora de la evolución del Pla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Di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Transcur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ontactos de Placas Converg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Puntos Calientes (Hots Pots) y Plumas manté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Book Antiqua"/>
              </a:rPr>
              <a:t>Ciclo de vida de los Océ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Quinta Parte:  </a:t>
            </a:r>
            <a:r>
              <a:rPr b="1" lang="es-ES" sz="2800" spc="-1" strike="noStrike">
                <a:solidFill>
                  <a:srgbClr val="ffffff"/>
                </a:solidFill>
                <a:latin typeface="Book Antiqua"/>
              </a:rPr>
              <a:t>EVOLUCIÓN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ctónica y evolución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uentes de Recursos Minerales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tros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20:56:51Z</dcterms:created>
  <dc:creator>Universidad de Chile</dc:creator>
  <dc:description/>
  <dc:language>en-US</dc:language>
  <cp:lastModifiedBy>Universidad de Chile</cp:lastModifiedBy>
  <dcterms:modified xsi:type="dcterms:W3CDTF">2001-04-11T22:02:47Z</dcterms:modified>
  <cp:revision>5</cp:revision>
  <dc:subject/>
  <dc:title>CURSO GEOLOGÍA GENERAL                                          PROGRAMA </dc:title>
</cp:coreProperties>
</file>